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162-FD59-495C-8069-B0322691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C2B-F4FD-477E-9FEA-2EEE92F9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710-56C3-4F3A-B974-DE05DD4E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068-8EB2-459F-AC0C-9A1A3C81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06D-B25B-4421-A5AD-BC4BA4CD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C53-B365-43E9-AAD0-0FAD5622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1CB-8076-4C8F-96F0-C16A987C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2D2-A2E8-4D90-92EB-B3206A37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32F-EEBF-42B3-878F-F391F3A5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E78-26D0-4A96-BAEF-B58E7AA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990-2AF8-401F-8EB8-64F4894B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74B-9204-4CBC-B2E5-D696A6B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552-DF82-46E8-A92A-193F92357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115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Frage zu den Maßeinheiten…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 3" descr=""/>
          <p:cNvPicPr/>
          <p:nvPr/>
        </p:nvPicPr>
        <p:blipFill>
          <a:blip r:embed="rId1"/>
          <a:stretch/>
        </p:blipFill>
        <p:spPr>
          <a:xfrm>
            <a:off x="3178080" y="2279520"/>
            <a:ext cx="64962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Ein Elefant wieg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ra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.. 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Kilogra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3" descr=""/>
          <p:cNvPicPr/>
          <p:nvPr/>
        </p:nvPicPr>
        <p:blipFill>
          <a:blip r:embed="rId1"/>
          <a:stretch/>
        </p:blipFill>
        <p:spPr>
          <a:xfrm>
            <a:off x="6769080" y="2371680"/>
            <a:ext cx="4681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Eine Girafe ist …… hoch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Kilo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ra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 4" descr=""/>
          <p:cNvPicPr/>
          <p:nvPr/>
        </p:nvPicPr>
        <p:blipFill>
          <a:blip r:embed="rId1"/>
          <a:stretch/>
        </p:blipFill>
        <p:spPr>
          <a:xfrm>
            <a:off x="7377120" y="495360"/>
            <a:ext cx="28400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Ein Baguette kostet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0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0 C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4" descr=""/>
          <p:cNvPicPr/>
          <p:nvPr/>
        </p:nvPicPr>
        <p:blipFill>
          <a:blip r:embed="rId1"/>
          <a:stretch/>
        </p:blipFill>
        <p:spPr>
          <a:xfrm rot="18364200">
            <a:off x="5220360" y="2481840"/>
            <a:ext cx="61149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16:18:54Z</dcterms:created>
  <dc:creator>nicolas pinel</dc:creator>
  <dc:description/>
  <dc:language>en-US</dc:language>
  <cp:lastModifiedBy>ecole</cp:lastModifiedBy>
  <dcterms:modified xsi:type="dcterms:W3CDTF">2019-08-16T13:03:13Z</dcterms:modified>
  <cp:revision>7</cp:revision>
  <dc:subject/>
  <dc:title>Questions de mesure…</dc:title>
</cp:coreProperties>
</file>